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8E8-4D22-4796-82DF-6A6B5D33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CCD-BE9C-49A0-A069-C6FA8631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BC7-0B4B-45F2-8F90-78547ABB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689-27BB-4819-9CE3-2D4358DE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CB13-B6D6-4229-BF01-2BB93F18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C7A8-A116-4570-A206-A1B2EDCA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470B-BCD6-45CF-A5CE-DD961B59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C004-5145-4634-9F7E-0731A913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CD3C-5204-4E1A-A493-D56058D5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9E4E-C628-4BCE-9479-8FEE83BB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A4CB-DD1E-4DD4-A625-605FA524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182-0F0D-46B2-91A9-81B5AD0F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4AAE-9E23-429D-B484-EF7C1908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8A62-FC59-48ED-A9FC-B1AAC024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CE13-942F-4EB2-A49E-D3EB54B0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1732-B095-4969-959A-4FEBCFB5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0248-7DC2-4FCE-8177-C6582834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16E-4A25-446A-8A56-9D6121A5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00C-DB84-479A-A258-E3C7F034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F7C-F11C-40F9-BE11-609F58A5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803-5AA9-404B-8E13-D5C0BD74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B7E-E3A2-4E27-93D7-1686C231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FED-91A8-4B62-8A56-40F53E2F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511-0D40-4451-9265-CC816993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raphing Relationship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040" y="411444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ircles and squa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 a picture of four different size circles and four different size squa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5867280" y="3429000"/>
            <a:ext cx="2438640" cy="2438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Oval 5"/>
          <p:cNvSpPr/>
          <p:nvPr/>
        </p:nvSpPr>
        <p:spPr>
          <a:xfrm>
            <a:off x="6215040" y="4643280"/>
            <a:ext cx="990720" cy="914400"/>
          </a:xfrm>
          <a:prstGeom prst="ellipse">
            <a:avLst/>
          </a:prstGeom>
          <a:solidFill>
            <a:srgbClr val="ff7c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Oval 7"/>
          <p:cNvSpPr/>
          <p:nvPr/>
        </p:nvSpPr>
        <p:spPr>
          <a:xfrm>
            <a:off x="6286680" y="3143160"/>
            <a:ext cx="1523880" cy="1371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143000" y="3733920"/>
            <a:ext cx="2286000" cy="20574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785880" y="4143240"/>
            <a:ext cx="838080" cy="8384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500120" y="4643280"/>
            <a:ext cx="1676520" cy="1524240"/>
          </a:xfrm>
          <a:prstGeom prst="rect">
            <a:avLst/>
          </a:prstGeom>
          <a:solidFill>
            <a:srgbClr val="ff7c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857680" y="3929040"/>
            <a:ext cx="457200" cy="4572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7715160" y="4714920"/>
            <a:ext cx="381240" cy="38088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ata for Circles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measure each radius and record i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ircles:  radius, circumference and ar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2786040"/>
          <a:ext cx="6095880" cy="3521160"/>
        </p:xfrm>
        <a:graphic>
          <a:graphicData uri="http://schemas.openxmlformats.org/drawingml/2006/table">
            <a:tbl>
              <a:tblPr/>
              <a:tblGrid>
                <a:gridCol w="1440000"/>
                <a:gridCol w="1439640"/>
                <a:gridCol w="1730520"/>
                <a:gridCol w="1485720"/>
              </a:tblGrid>
              <a:tr h="7318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ir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adius of circle 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ircumf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 = 2</a:t>
                      </a: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rea       A =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ata for Squares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measure the side length of each and record i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length, perimeter and area of the squa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2571840"/>
          <a:ext cx="6095880" cy="3517920"/>
        </p:xfrm>
        <a:graphic>
          <a:graphicData uri="http://schemas.openxmlformats.org/drawingml/2006/table">
            <a:tbl>
              <a:tblPr/>
              <a:tblGrid>
                <a:gridCol w="1062000"/>
                <a:gridCol w="1550880"/>
                <a:gridCol w="1892520"/>
                <a:gridCol w="1590480"/>
              </a:tblGrid>
              <a:tr h="7318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qua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ide Length 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erimeter        P = 4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rea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 = L</a:t>
                      </a:r>
                      <a:r>
                        <a:rPr b="1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raphing The Inform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ph the relationship of the radius to the circumference of the circ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ph the relationship of the radius to the area of the circles on the same grap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maybe able to use a graphics calculator for this part, or your teacher will provide graph pap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raphing The Inform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ph the relationship of the side to the perimeter of the squa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ph the relationship of the side to the area of the squares on the same grap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maybe able to use a graphics calculator for this part, or your teacher will provide graph pap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at Did You Observ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3T23:56:02Z</dcterms:created>
  <dc:creator>C.U.S.D.</dc:creator>
  <dc:description/>
  <dc:language>en-US</dc:language>
  <cp:lastModifiedBy>Carol Moule</cp:lastModifiedBy>
  <dcterms:modified xsi:type="dcterms:W3CDTF">2010-08-08T05:53:35Z</dcterms:modified>
  <cp:revision>5</cp:revision>
  <dc:subject/>
  <dc:title>Graphing Relationships</dc:title>
</cp:coreProperties>
</file>